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081-6C06-4BC1-976F-47B0E733D9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7944-736A-4F2C-A927-4D1D093483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40F-0EEC-4D52-8403-5CEED38D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222-AC23-4D7B-8225-03BCC7D8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D27-57CE-4C66-921D-E5835D66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C2-C4C3-4797-B9FD-F93B2E89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FB0-11FB-4837-A2F9-5CD9EC83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357-72EE-48D8-8498-FE46C32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5D1-84C0-4603-8883-9F6EDF42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E403-D321-4904-BD7B-66CEA90C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F639-BF9F-45A3-BF8C-22CBA26E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912-FDF4-425E-9E97-E9FE935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E48-9760-4778-9CD8-DB987B8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7C1-2DD3-4C03-88EC-FA04E38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CD5F-75EB-45D1-A0E2-F71B8D26F1D1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8"/>
          <p:cNvSpPr/>
          <p:nvPr/>
        </p:nvSpPr>
        <p:spPr>
          <a:xfrm>
            <a:off x="522360" y="27860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直線コネクタ 9"/>
          <p:cNvSpPr/>
          <p:nvPr/>
        </p:nvSpPr>
        <p:spPr>
          <a:xfrm>
            <a:off x="522360" y="19432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2351160" y="25700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様（御中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487440" y="172728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6"/>
          <p:cNvSpPr/>
          <p:nvPr/>
        </p:nvSpPr>
        <p:spPr>
          <a:xfrm>
            <a:off x="106200" y="75708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9"/>
          <p:cNvSpPr/>
          <p:nvPr/>
        </p:nvSpPr>
        <p:spPr>
          <a:xfrm>
            <a:off x="809640" y="9572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正方形/長方形 22"/>
          <p:cNvSpPr/>
          <p:nvPr/>
        </p:nvSpPr>
        <p:spPr>
          <a:xfrm>
            <a:off x="4680" y="2092320"/>
            <a:ext cx="3492720" cy="3603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3"/>
          <p:cNvSpPr/>
          <p:nvPr/>
        </p:nvSpPr>
        <p:spPr>
          <a:xfrm>
            <a:off x="108000" y="21258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4"/>
          <p:cNvSpPr/>
          <p:nvPr/>
        </p:nvSpPr>
        <p:spPr>
          <a:xfrm>
            <a:off x="885960" y="283212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会　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3,0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□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非会員　：　</a:t>
            </a:r>
            <a:r>
              <a:rPr b="0" lang="en-US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,500</a:t>
            </a: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6360" y="320832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費として上記金額を領収致しました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24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9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1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線コネクタ 28"/>
          <p:cNvSpPr/>
          <p:nvPr/>
        </p:nvSpPr>
        <p:spPr>
          <a:xfrm>
            <a:off x="522360" y="15541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29"/>
          <p:cNvSpPr/>
          <p:nvPr/>
        </p:nvSpPr>
        <p:spPr>
          <a:xfrm>
            <a:off x="487440" y="133812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1"/>
          <p:cNvSpPr/>
          <p:nvPr/>
        </p:nvSpPr>
        <p:spPr>
          <a:xfrm>
            <a:off x="474840" y="522360"/>
            <a:ext cx="249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大学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7:36:45Z</dcterms:modified>
  <cp:revision>19</cp:revision>
  <dc:subject/>
  <dc:title>PowerPoint プレゼンテーション</dc:title>
</cp:coreProperties>
</file>