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492500" cy="4176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95480" y="685440"/>
            <a:ext cx="28670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7D38-A294-4BC2-824D-10C78770F76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995480" y="685800"/>
            <a:ext cx="286704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表面デー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1859-6299-41F5-8E6D-162A983AD12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33EC-4975-46F6-AB37-1AF4DD8C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31431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4240" y="2414880"/>
            <a:ext cx="31431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677C-6631-44B3-B18B-7E0C4B0D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424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8488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6C6-5733-404F-BE1F-E28EC480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37320" y="97452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00040" y="97452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4240" y="241488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37320" y="241488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00040" y="241488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917-F782-4C4F-86EB-2F8AAC50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4240" y="974520"/>
            <a:ext cx="3143160" cy="27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61FA-2993-418B-9A3D-822493C7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314316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C82-9887-47E7-9183-3DE97B9A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013-2424-417E-BFE3-C053E2DB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FF6E-5595-4F48-A11B-15B6CC3A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4240" y="168120"/>
            <a:ext cx="314316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988F-99BB-442C-85F4-D85E3445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424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11C2-C78A-4145-893D-CF14F7FB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488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C04-989C-452F-AA14-EA1EF201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4240" y="2414880"/>
            <a:ext cx="31431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C031-0D99-456B-891B-1091D7F6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240" y="168120"/>
            <a:ext cx="3143160" cy="6955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4240" y="974520"/>
            <a:ext cx="314316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8000"/>
          </a:bodyPr>
          <a:p>
            <a:pPr marL="177120" indent="-1771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384120" indent="-147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591120" indent="-118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827640" indent="-11808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1064160" indent="-1180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1064160" indent="-1180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1064160" indent="-1180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4600" y="3871800"/>
            <a:ext cx="814320" cy="222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92320" y="3871800"/>
            <a:ext cx="1108080" cy="222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03440" y="3871800"/>
            <a:ext cx="814320" cy="222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D6E1-BF69-4EE0-9AD3-2A33912857EE}" type="slidenum">
              <a:rPr b="0" lang="ja-JP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6"/>
          <p:cNvSpPr/>
          <p:nvPr/>
        </p:nvSpPr>
        <p:spPr>
          <a:xfrm>
            <a:off x="-1566720" y="950760"/>
            <a:ext cx="151272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■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2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つ折参加証テンプレート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●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スライドサイズ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（塗り足しサイズ）</a:t>
            </a:r>
            <a:br>
              <a:rPr sz="700"/>
            </a:b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　幅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97mm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高さ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116m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●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赤枠（仕上がりサイズ）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　幅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91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㎜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高さ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110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㎜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※</a:t>
            </a:r>
            <a:r>
              <a:rPr b="0" lang="ja-JP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フチまでイラストや写真が入る場合は、見本の様に、スライドいっぱいまで、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※</a:t>
            </a:r>
            <a:r>
              <a:rPr b="0" lang="en-US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PDF</a:t>
            </a:r>
            <a:r>
              <a:rPr b="0" lang="ja-JP" sz="700" spc="-1" strike="noStrike">
                <a:solidFill>
                  <a:srgbClr val="ff0000"/>
                </a:solidFill>
                <a:latin typeface="游ゴシック Medium"/>
                <a:ea typeface="游ゴシック Medium"/>
              </a:rPr>
              <a:t>形式で保存してご入稿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"/>
          <p:cNvSpPr/>
          <p:nvPr/>
        </p:nvSpPr>
        <p:spPr>
          <a:xfrm>
            <a:off x="0" y="0"/>
            <a:ext cx="3492360" cy="51912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直線コネクタ 9"/>
          <p:cNvSpPr/>
          <p:nvPr/>
        </p:nvSpPr>
        <p:spPr>
          <a:xfrm>
            <a:off x="522360" y="169848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2"/>
          <p:cNvSpPr/>
          <p:nvPr/>
        </p:nvSpPr>
        <p:spPr>
          <a:xfrm>
            <a:off x="487440" y="1482840"/>
            <a:ext cx="6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名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16"/>
          <p:cNvSpPr/>
          <p:nvPr/>
        </p:nvSpPr>
        <p:spPr>
          <a:xfrm>
            <a:off x="106200" y="2738520"/>
            <a:ext cx="3276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第</a:t>
            </a:r>
            <a:r>
              <a:rPr b="0" lang="en-US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55</a:t>
            </a:r>
            <a:r>
              <a:rPr b="0" lang="ja-JP" sz="7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回西岡総合印刷 学会・学術会議に現地参加したことを証明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テキスト ボックス 19"/>
          <p:cNvSpPr/>
          <p:nvPr/>
        </p:nvSpPr>
        <p:spPr>
          <a:xfrm>
            <a:off x="809640" y="293832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開催日：</a:t>
            </a:r>
            <a:r>
              <a:rPr b="0" lang="en-US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20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●●</a:t>
            </a: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年●月●日・●日　</a:t>
            </a:r>
            <a:br>
              <a:rPr sz="800"/>
            </a:b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会　場：西岡総合印刷大学内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22"/>
          <p:cNvSpPr/>
          <p:nvPr/>
        </p:nvSpPr>
        <p:spPr>
          <a:xfrm>
            <a:off x="4680" y="2092320"/>
            <a:ext cx="3492720" cy="37620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23"/>
          <p:cNvSpPr/>
          <p:nvPr/>
        </p:nvSpPr>
        <p:spPr>
          <a:xfrm>
            <a:off x="108000" y="216072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参加証明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7"/>
          <p:cNvSpPr/>
          <p:nvPr/>
        </p:nvSpPr>
        <p:spPr>
          <a:xfrm>
            <a:off x="108000" y="163440"/>
            <a:ext cx="32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第</a:t>
            </a:r>
            <a:r>
              <a:rPr b="0" lang="en-US" sz="14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55</a:t>
            </a:r>
            <a:r>
              <a:rPr b="0" lang="ja-JP" sz="1400" spc="-1" strike="noStrike">
                <a:solidFill>
                  <a:srgbClr val="ffffff"/>
                </a:solidFill>
                <a:latin typeface="游ゴシック体 Pr6N B"/>
                <a:ea typeface="游ゴシック体 Pr6N B"/>
              </a:rPr>
              <a:t>回西岡総合印刷 学会・学術会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線コネクタ 28"/>
          <p:cNvSpPr/>
          <p:nvPr/>
        </p:nvSpPr>
        <p:spPr>
          <a:xfrm>
            <a:off x="503280" y="107964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29"/>
          <p:cNvSpPr/>
          <p:nvPr/>
        </p:nvSpPr>
        <p:spPr>
          <a:xfrm>
            <a:off x="468360" y="863640"/>
            <a:ext cx="6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所属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32"/>
          <p:cNvSpPr/>
          <p:nvPr/>
        </p:nvSpPr>
        <p:spPr>
          <a:xfrm>
            <a:off x="1104840" y="354168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西岡総合印刷学会・学術会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游ゴシック Medium"/>
                <a:ea typeface="游ゴシック Medium"/>
              </a:rPr>
              <a:t>　　　　　　　　会長　西岡 太郎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四角形: 角を丸くする 33"/>
          <p:cNvSpPr/>
          <p:nvPr/>
        </p:nvSpPr>
        <p:spPr>
          <a:xfrm>
            <a:off x="2725560" y="3433680"/>
            <a:ext cx="524160" cy="509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915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正方形/長方形 3"/>
          <p:cNvSpPr/>
          <p:nvPr/>
        </p:nvSpPr>
        <p:spPr>
          <a:xfrm>
            <a:off x="108000" y="112680"/>
            <a:ext cx="3276720" cy="3959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8:03:03Z</dcterms:created>
  <dc:creator>NISHI0210</dc:creator>
  <dc:description/>
  <dc:language>en-US</dc:language>
  <cp:lastModifiedBy>宗俊 玉置</cp:lastModifiedBy>
  <dcterms:modified xsi:type="dcterms:W3CDTF">2024-08-08T07:40:23Z</dcterms:modified>
  <cp:revision>20</cp:revision>
  <dc:subject/>
  <dc:title>PowerPoint プレゼンテーション</dc:title>
</cp:coreProperties>
</file>