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92500" cy="6156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455920" y="685440"/>
            <a:ext cx="19461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9F4B-9FB5-4B71-A20C-F8BE8CD74D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2455920" y="685800"/>
            <a:ext cx="194616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4323-9E7D-43E5-B1E6-25CD329870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50C-6805-47E3-BD65-5416A7A4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31431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1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3559320"/>
            <a:ext cx="31431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1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DED0-C91A-4589-86D1-BA66553D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FE6-952C-488B-BC54-D7CE6D35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143640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143640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355932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355932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3559320"/>
            <a:ext cx="10119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C37-A3D6-41DE-9E95-B27E0927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1436400"/>
            <a:ext cx="314316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B2B-7468-490F-8F28-64677785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314316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836-2C82-4CBA-84E2-2FABB3F0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35DB-9350-46E3-BDB5-7B9E3B76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8DC-86D6-4069-AAE9-6C0C237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247320"/>
            <a:ext cx="314316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919-5FCA-4E0D-9F30-BB694926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AD9-7350-4D31-B970-C7921959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65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355932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15A-C9A0-4C1D-9B57-CA09EB02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1983600"/>
            <a:ext cx="3143160" cy="548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1436400"/>
            <a:ext cx="153360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6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3559320"/>
            <a:ext cx="3143160" cy="1938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1000"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5A2-4755-4473-80EF-450EAB1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247320"/>
            <a:ext cx="3143160" cy="10256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1436400"/>
            <a:ext cx="3143160" cy="4064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0000"/>
          </a:bodyPr>
          <a:p>
            <a:pPr marL="205920" indent="-2059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446400" indent="-1717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2" marL="687600" indent="-1371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3" marL="962640" indent="-1371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4" marL="1238040" indent="-1371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5" marL="1238040" indent="-1371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6" marL="1238040" indent="-1371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5707080"/>
            <a:ext cx="814320" cy="3268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5707080"/>
            <a:ext cx="1108080" cy="3268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5707080"/>
            <a:ext cx="814320" cy="3268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B563-0D08-4E30-A649-57987E1A66F4}" type="slidenum">
              <a:rPr b="0" lang="ja-JP" sz="2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-2178000" y="122400"/>
            <a:ext cx="21096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0" rIns="183600" tIns="91800" bIns="91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■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3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つ折参加証テンプレー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スライドサイ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（塗り足しサイズ）</a:t>
            </a:r>
            <a:br>
              <a:rPr sz="800"/>
            </a:b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7mm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71m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赤枠（仕上がりサイズ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1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65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折り線位置（赤の破線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56mm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／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56mm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／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53m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フチまでイラストや写真が入る場合は、見本の様に、スライドいっぱいまで、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en-US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PDF</a:t>
            </a:r>
            <a:r>
              <a:rPr b="0" lang="ja-JP" sz="8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形式で保存してご入稿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"/>
          <p:cNvSpPr/>
          <p:nvPr/>
        </p:nvSpPr>
        <p:spPr>
          <a:xfrm>
            <a:off x="0" y="0"/>
            <a:ext cx="3492360" cy="48564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2"/>
          <p:cNvSpPr/>
          <p:nvPr/>
        </p:nvSpPr>
        <p:spPr>
          <a:xfrm>
            <a:off x="326880" y="137484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明朝"/>
                <a:ea typeface="游明朝"/>
              </a:rPr>
              <a:t>名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6"/>
          <p:cNvSpPr/>
          <p:nvPr/>
        </p:nvSpPr>
        <p:spPr>
          <a:xfrm>
            <a:off x="326880" y="2637000"/>
            <a:ext cx="275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第</a:t>
            </a:r>
            <a:r>
              <a:rPr b="0" lang="en-US" sz="900" spc="-1" strike="noStrike">
                <a:solidFill>
                  <a:srgbClr val="000000"/>
                </a:solidFill>
                <a:latin typeface="游明朝"/>
                <a:ea typeface="游明朝"/>
              </a:rPr>
              <a:t>55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回西岡総合印刷 学会・学術会議に現地参加したことを証明します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9"/>
          <p:cNvSpPr/>
          <p:nvPr/>
        </p:nvSpPr>
        <p:spPr>
          <a:xfrm>
            <a:off x="687240" y="3078000"/>
            <a:ext cx="19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開催日：</a:t>
            </a:r>
            <a:r>
              <a:rPr b="0" lang="en-US" sz="900" spc="-1" strike="noStrike">
                <a:solidFill>
                  <a:srgbClr val="000000"/>
                </a:solidFill>
                <a:latin typeface="游明朝"/>
                <a:ea typeface="游明朝"/>
              </a:rPr>
              <a:t>20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●●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年●月●日・●日　</a:t>
            </a:r>
            <a:br>
              <a:rPr sz="900"/>
            </a:b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会　場：西岡総合印刷大学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24"/>
          <p:cNvSpPr/>
          <p:nvPr/>
        </p:nvSpPr>
        <p:spPr>
          <a:xfrm>
            <a:off x="473040" y="4702320"/>
            <a:ext cx="25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游明朝"/>
                <a:ea typeface="游明朝"/>
              </a:rPr>
              <a:t>参加費　</a:t>
            </a:r>
            <a:r>
              <a:rPr b="0" lang="en-US" sz="1200" spc="-1" strike="noStrike">
                <a:solidFill>
                  <a:srgbClr val="000000"/>
                </a:solidFill>
                <a:latin typeface="游明朝"/>
                <a:ea typeface="游明朝"/>
              </a:rPr>
              <a:t>3,000</a:t>
            </a:r>
            <a:r>
              <a:rPr b="0" lang="ja-JP" sz="1200" spc="-1" strike="noStrike">
                <a:solidFill>
                  <a:srgbClr val="000000"/>
                </a:solidFill>
                <a:latin typeface="游明朝"/>
                <a:ea typeface="游明朝"/>
              </a:rPr>
              <a:t>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25"/>
          <p:cNvSpPr/>
          <p:nvPr/>
        </p:nvSpPr>
        <p:spPr>
          <a:xfrm>
            <a:off x="128520" y="501336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参加費として上記金額を領収致しました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游明朝"/>
                <a:ea typeface="游明朝"/>
              </a:rPr>
              <a:t>20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●●</a:t>
            </a: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年●月●日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27"/>
          <p:cNvSpPr/>
          <p:nvPr/>
        </p:nvSpPr>
        <p:spPr>
          <a:xfrm>
            <a:off x="100080" y="155520"/>
            <a:ext cx="329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明朝"/>
                <a:ea typeface="游明朝"/>
              </a:rPr>
              <a:t>第</a:t>
            </a:r>
            <a:r>
              <a:rPr b="0" lang="en-US" sz="1400" spc="-1" strike="noStrike">
                <a:solidFill>
                  <a:srgbClr val="ffffff"/>
                </a:solidFill>
                <a:latin typeface="游明朝"/>
                <a:ea typeface="游明朝"/>
              </a:rPr>
              <a:t>55</a:t>
            </a:r>
            <a:r>
              <a:rPr b="0" lang="ja-JP" sz="1400" spc="-1" strike="noStrike">
                <a:solidFill>
                  <a:srgbClr val="ffffff"/>
                </a:solidFill>
                <a:latin typeface="游明朝"/>
                <a:ea typeface="游明朝"/>
              </a:rPr>
              <a:t>回西岡総合印刷 学会・学術会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28"/>
          <p:cNvSpPr/>
          <p:nvPr/>
        </p:nvSpPr>
        <p:spPr>
          <a:xfrm>
            <a:off x="384120" y="1109520"/>
            <a:ext cx="26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29"/>
          <p:cNvSpPr/>
          <p:nvPr/>
        </p:nvSpPr>
        <p:spPr>
          <a:xfrm>
            <a:off x="328680" y="88884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明朝"/>
                <a:ea typeface="游明朝"/>
              </a:rPr>
              <a:t>所属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32"/>
          <p:cNvSpPr/>
          <p:nvPr/>
        </p:nvSpPr>
        <p:spPr>
          <a:xfrm>
            <a:off x="210960" y="55278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西岡総合印刷大学学会・学術会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　　　　　　　　会長　西岡 太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四角形: 角を丸くする 33"/>
          <p:cNvSpPr/>
          <p:nvPr/>
        </p:nvSpPr>
        <p:spPr>
          <a:xfrm>
            <a:off x="2754360" y="5454720"/>
            <a:ext cx="50472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正方形/長方形 5"/>
          <p:cNvSpPr/>
          <p:nvPr/>
        </p:nvSpPr>
        <p:spPr>
          <a:xfrm>
            <a:off x="106200" y="101520"/>
            <a:ext cx="3275280" cy="594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11"/>
          <p:cNvSpPr/>
          <p:nvPr/>
        </p:nvSpPr>
        <p:spPr>
          <a:xfrm>
            <a:off x="-3240" y="2127240"/>
            <a:ext cx="3492720" cy="372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線コネクタ 15"/>
          <p:cNvSpPr/>
          <p:nvPr/>
        </p:nvSpPr>
        <p:spPr>
          <a:xfrm>
            <a:off x="384120" y="1620720"/>
            <a:ext cx="267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23"/>
          <p:cNvSpPr/>
          <p:nvPr/>
        </p:nvSpPr>
        <p:spPr>
          <a:xfrm>
            <a:off x="106200" y="2193840"/>
            <a:ext cx="32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游明朝"/>
                <a:ea typeface="游明朝"/>
              </a:rPr>
              <a:t>参加証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8"/>
          <p:cNvSpPr/>
          <p:nvPr/>
        </p:nvSpPr>
        <p:spPr>
          <a:xfrm>
            <a:off x="-3240" y="4140360"/>
            <a:ext cx="3492720" cy="37296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テキスト ボックス 23"/>
          <p:cNvSpPr/>
          <p:nvPr/>
        </p:nvSpPr>
        <p:spPr>
          <a:xfrm>
            <a:off x="106200" y="4206960"/>
            <a:ext cx="32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游明朝"/>
                <a:ea typeface="游明朝"/>
              </a:rPr>
              <a:t>領収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線コネクタ 24"/>
          <p:cNvSpPr/>
          <p:nvPr/>
        </p:nvSpPr>
        <p:spPr>
          <a:xfrm>
            <a:off x="863640" y="4956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2"/>
          <p:cNvSpPr/>
          <p:nvPr/>
        </p:nvSpPr>
        <p:spPr>
          <a:xfrm>
            <a:off x="210960" y="363708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西岡総合印刷大学学会・学術会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游明朝"/>
                <a:ea typeface="游明朝"/>
              </a:rPr>
              <a:t>　　　　　　　　会長　西岡 太郎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四角形: 角を丸くする 26"/>
          <p:cNvSpPr/>
          <p:nvPr/>
        </p:nvSpPr>
        <p:spPr>
          <a:xfrm>
            <a:off x="2754360" y="3564000"/>
            <a:ext cx="50472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線コネクタ 30"/>
          <p:cNvSpPr/>
          <p:nvPr/>
        </p:nvSpPr>
        <p:spPr>
          <a:xfrm>
            <a:off x="0" y="4140360"/>
            <a:ext cx="3492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2"/>
          <p:cNvSpPr/>
          <p:nvPr/>
        </p:nvSpPr>
        <p:spPr>
          <a:xfrm>
            <a:off x="0" y="2124000"/>
            <a:ext cx="3492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宗俊 玉置</cp:lastModifiedBy>
  <dcterms:modified xsi:type="dcterms:W3CDTF">2024-08-08T06:38:46Z</dcterms:modified>
  <cp:revision>25</cp:revision>
  <dc:subject/>
  <dc:title>PowerPoint プレゼンテーション</dc:title>
</cp:coreProperties>
</file>